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CFE0-64B4-472B-9C7F-864F1B636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8F9-B42E-47E7-BDE0-61C642F2A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43D-0D56-45ED-B5B6-938C3003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90C-D98C-49B3-9BEA-0FD3BD26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E83-26D3-48C0-B8E3-5A2C49E1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E74-9B29-4651-92B0-DEE14E98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4A9-369D-4D25-AED2-45AD1C5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D56-9A84-4864-8A3E-5D634B53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FDD-B3EC-4C51-882F-E1BC58AF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0C0-EBBD-498D-A539-C17A136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555-53B1-49C4-8065-57F028B6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096-C987-46D3-9F4B-264AC711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F31-7651-4A80-94C2-AA4CC4FA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977-03B5-4CDE-93A6-83B57858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8997-F0A0-4F41-999B-D4AC005A3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http://www.physics.umd.edu/lecdem/services/demos/demosn2/n2-03a.gif"/>
          <p:cNvPicPr/>
          <p:nvPr/>
        </p:nvPicPr>
        <p:blipFill>
          <a:blip r:embed="rId1"/>
          <a:stretch/>
        </p:blipFill>
        <p:spPr>
          <a:xfrm>
            <a:off x="1981080" y="1600200"/>
            <a:ext cx="535320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physics.umd.edu/lecdem/services/demos/demosn2/n2-03d.gif"/>
          <p:cNvPicPr/>
          <p:nvPr/>
        </p:nvPicPr>
        <p:blipFill>
          <a:blip r:embed="rId2"/>
          <a:stretch/>
        </p:blipFill>
        <p:spPr>
          <a:xfrm>
            <a:off x="2133720" y="2590920"/>
            <a:ext cx="5029200" cy="78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physics.umd.edu/lecdem/services/demos/demosn2/n2-03c.gif"/>
          <p:cNvPicPr/>
          <p:nvPr/>
        </p:nvPicPr>
        <p:blipFill>
          <a:blip r:embed="rId3"/>
          <a:stretch/>
        </p:blipFill>
        <p:spPr>
          <a:xfrm>
            <a:off x="2133720" y="3962520"/>
            <a:ext cx="5029200" cy="788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914400" y="51465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mission spectru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ws  what colors of light are given off when an object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5812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odium spectr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http://www.physics.umd.edu/lecdem/services/demos/demosn2/n2-03a.gif"/>
          <p:cNvPicPr/>
          <p:nvPr/>
        </p:nvPicPr>
        <p:blipFill>
          <a:blip r:embed="rId1"/>
          <a:stretch/>
        </p:blipFill>
        <p:spPr>
          <a:xfrm>
            <a:off x="1981080" y="1600200"/>
            <a:ext cx="53532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physics.umd.edu/lecdem/services/demos/demosn2/n2-03d.gif"/>
          <p:cNvPicPr/>
          <p:nvPr/>
        </p:nvPicPr>
        <p:blipFill>
          <a:blip r:embed="rId2"/>
          <a:stretch/>
        </p:blipFill>
        <p:spPr>
          <a:xfrm>
            <a:off x="2133720" y="2590920"/>
            <a:ext cx="5029200" cy="78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://www.physics.umd.edu/lecdem/services/demos/demosn2/n2-03c.gif"/>
          <p:cNvPicPr/>
          <p:nvPr/>
        </p:nvPicPr>
        <p:blipFill>
          <a:blip r:embed="rId3"/>
          <a:stretch/>
        </p:blipFill>
        <p:spPr>
          <a:xfrm>
            <a:off x="2133720" y="4572000"/>
            <a:ext cx="5029200" cy="789120"/>
          </a:xfrm>
          <a:prstGeom prst="rect">
            <a:avLst/>
          </a:prstGeom>
          <a:ln w="0">
            <a:noFill/>
          </a:ln>
        </p:spPr>
      </p:pic>
      <p:sp>
        <p:nvSpPr>
          <p:cNvPr id="58" name="Down Arrow 1"/>
          <p:cNvSpPr/>
          <p:nvPr/>
        </p:nvSpPr>
        <p:spPr>
          <a:xfrm>
            <a:off x="7848720" y="2019240"/>
            <a:ext cx="380880" cy="438156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04920" y="5638680"/>
            <a:ext cx="70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increasing heat and brightness, more colors show up, but there are missing colors.  This was a puzzle in the earliest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.  Why the gap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bsorption Spectr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http://www.harmsy.freeuk.com/images/spectrum.jpe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711440" y="5049720"/>
            <a:ext cx="48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unhofer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ydrogen Atomic Energy Leve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http://www.physics.umd.edu/deptinfo/facilities/lecdem/honr228q/notes/henlevels.gif"/>
          <p:cNvPicPr/>
          <p:nvPr/>
        </p:nvPicPr>
        <p:blipFill>
          <a:blip r:embed="rId1"/>
          <a:stretch/>
        </p:blipFill>
        <p:spPr>
          <a:xfrm>
            <a:off x="762120" y="914400"/>
            <a:ext cx="3698640" cy="57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physics.umd.edu/deptinfo/facilities/lecdem/services/demos/demosp3/p3-51.gif"/>
          <p:cNvPicPr/>
          <p:nvPr/>
        </p:nvPicPr>
        <p:blipFill>
          <a:blip r:embed="rId2"/>
          <a:stretch/>
        </p:blipFill>
        <p:spPr>
          <a:xfrm>
            <a:off x="6477120" y="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41:59Z</dcterms:created>
  <dc:creator>TZ</dc:creator>
  <dc:description/>
  <dc:language>en-US</dc:language>
  <cp:lastModifiedBy>"%username%"</cp:lastModifiedBy>
  <dcterms:modified xsi:type="dcterms:W3CDTF">2016-05-13T15:24:03Z</dcterms:modified>
  <cp:revision>9</cp:revision>
  <dc:subject/>
  <dc:title>Hydrogen Atomic Energy Levels</dc:title>
</cp:coreProperties>
</file>